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4518-739F-4816-AC53-9E94C2CF1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9E57-D56C-414E-884F-0E8E8B9156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AE25-0E56-41C7-907B-E51E94F49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1BD4-2A99-4D9D-8239-A57D7D00E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0298C-C042-4ACA-BAF2-C27F24251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C588-BD00-4376-B793-24302AE34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5CA35-46BF-40D4-89C5-F6A816623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9552-D44B-4229-A5E1-8E083B9A8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BD42C-AABF-468A-BEE5-713F8ED34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1C770-8407-4900-BBE1-7CB495AFA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E248E-81FE-437C-A87E-BE03DC800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2A5FF-10F7-467C-8559-0FB07F687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B68D77-DA9A-4BBE-859F-9F5FF2469D6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4524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4524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2-11T09:27:08Z</dcterms:modified>
  <cp:revision>91</cp:revision>
  <dc:subject/>
  <dc:title>No Slide Title</dc:title>
</cp:coreProperties>
</file>